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AA8A-D413-4F7D-BDAD-7C0F3ED19D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312-5EE0-4AA9-814B-C139DDCF0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B3BA-7C6A-4148-A1DC-ABE3D854A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DFFD-C63B-4848-9674-EC9735ED8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8FA6-AADC-4739-89F9-9024A3003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E84E-C419-46C9-BDD0-2148346327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FB6-048C-484E-82E0-3BBA263A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F79-6E2D-445E-8049-9BFBE7DB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3EE-FFF9-4940-BCCB-FFF6EE73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141-0937-4D8C-8304-C7992C2D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52B-53FD-4E06-BAB9-DC039B9B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C82-2319-4313-9229-794D1402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082-CEED-4AF5-8BFE-FF6488BC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E5F-06A6-45D7-8ECF-4FB8FCE3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432-11D7-4E33-83E8-15BB0271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155-5C9D-4882-A3CC-C586E484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D93-EB2A-4645-9E10-0EDB993F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E97-0BD9-4F3A-9490-810B879B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74BF-DD7E-4326-854C-7D186AC92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52360" y="26629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в единого государственного экзамена 2017 – 2018 учебного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140360" y="0"/>
            <a:ext cx="4779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ИТЕТ  ОБРАЗОВАНИЯ  И  НАУКИ Администрации города Няг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203640" y="630864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г. Нягань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28 сентября 201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4067280" y="1295280"/>
            <a:ext cx="4924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http://webserver/scin/head1.png"/>
          <p:cNvPicPr/>
          <p:nvPr/>
        </p:nvPicPr>
        <p:blipFill>
          <a:blip r:embed="rId1"/>
          <a:stretch/>
        </p:blipFill>
        <p:spPr>
          <a:xfrm>
            <a:off x="231840" y="836640"/>
            <a:ext cx="2611440" cy="2125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24000" y="2761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 выпускников в выборе экзам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1268280"/>
            <a:ext cx="878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Активность выпускников в выборе экзаменов в форе ЕГЭ по сравнению с прошлым годом увеличилась по географии, биологии, физике, информатике и математике профильного уров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и востребованными предметами (по выбору выпускника) в 2017-2018 учебном году по итогам ГИА ст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3213000"/>
          <a:ext cx="8207280" cy="2692440"/>
        </p:xfrm>
        <a:graphic>
          <a:graphicData uri="http://schemas.openxmlformats.org/drawingml/2006/table">
            <a:tbl>
              <a:tblPr/>
              <a:tblGrid>
                <a:gridCol w="1173240"/>
                <a:gridCol w="1778040"/>
                <a:gridCol w="1800000"/>
                <a:gridCol w="1728720"/>
                <a:gridCol w="17272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общего числа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общего числа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(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(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826920" y="1844640"/>
          <a:ext cx="7561440" cy="4151520"/>
        </p:xfrm>
        <a:graphic>
          <a:graphicData uri="http://schemas.openxmlformats.org/drawingml/2006/table">
            <a:tbl>
              <a:tblPr/>
              <a:tblGrid>
                <a:gridCol w="2664000"/>
                <a:gridCol w="2349360"/>
                <a:gridCol w="254808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2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из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5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тематика  (профильный уровен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(базовый уровен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1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ществозн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1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нформатика и И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6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оло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7" name="Прямоугольник 4"/>
          <p:cNvSpPr/>
          <p:nvPr/>
        </p:nvSpPr>
        <p:spPr>
          <a:xfrm>
            <a:off x="826920" y="1890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тестовый балл в разрезе общеобразовательн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902880"/>
            <a:ext cx="7490160" cy="5102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Содержимое 2"/>
          <p:cNvGrpSpPr/>
          <p:nvPr/>
        </p:nvGrpSpPr>
        <p:grpSpPr>
          <a:xfrm>
            <a:off x="536400" y="689040"/>
            <a:ext cx="7858440" cy="5553000"/>
            <a:chOff x="536400" y="689040"/>
            <a:chExt cx="7858440" cy="5553000"/>
          </a:xfrm>
        </p:grpSpPr>
        <p:pic>
          <p:nvPicPr>
            <p:cNvPr id="8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536400" y="689040"/>
              <a:ext cx="7858440" cy="55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39640" y="692280"/>
              <a:ext cx="7848720" cy="55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ВОД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 7-ми общеобразовательным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метам из 12 –ти средний тестовый бал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обучающихся 11-х классов города Нягани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ше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реднего результата ХМАО-Югры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349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географи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349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истори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349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английскому языку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литературе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хими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 русскому языку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математике базового уровн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5-ти общеобразовательным предметам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12-ти тестовый балл у обучающихся 11-х    классов города Нягани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иже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результатов ХМАО-Югры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информатике и ИКТ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математике профильного уровн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физике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биологи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обществознанию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799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490160" cy="8794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участников ЕГЭ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одолевших пороговый минимум по общеобразовательным предмета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казатель освоения программы среднего общего образова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826920" y="1660680"/>
          <a:ext cx="7561440" cy="4586040"/>
        </p:xfrm>
        <a:graphic>
          <a:graphicData uri="http://schemas.openxmlformats.org/drawingml/2006/table">
            <a:tbl>
              <a:tblPr/>
              <a:tblGrid>
                <a:gridCol w="2016360"/>
                <a:gridCol w="2665440"/>
                <a:gridCol w="28796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902880"/>
            <a:ext cx="7490160" cy="5102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Содержимое 2"/>
          <p:cNvGrpSpPr/>
          <p:nvPr/>
        </p:nvGrpSpPr>
        <p:grpSpPr>
          <a:xfrm>
            <a:off x="963720" y="1908000"/>
            <a:ext cx="7216560" cy="3402360"/>
            <a:chOff x="963720" y="1908000"/>
            <a:chExt cx="7216560" cy="3402360"/>
          </a:xfrm>
        </p:grpSpPr>
        <p:pic>
          <p:nvPicPr>
            <p:cNvPr id="8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963720" y="1908000"/>
              <a:ext cx="7216560" cy="340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971640" y="1916280"/>
              <a:ext cx="7200720" cy="33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ВОД</a:t>
              </a: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30000"/>
                </a:lnSpc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нимальный пороговый уровень в 2018 году был преодолен обучающими 11-х классов города Нягани по 4-ем общеобразовательным предметам: русскому языку, географии, английскому языку и литературе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30000"/>
                </a:lnSpc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сравнению с прошлым учебным годом (2017 годом) наблюдается отрицательная динамика  по количеству  участников ЕГЭ, преодолевших пороговый минимум (в 2017 г. – по 5-ти предметам, 2018 г. – по 4-ем предметам)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1008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участников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Э, преодолевших пороговый минимум по общеобразовательным предметам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азрезе общеобразовательных организаций горо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1590840"/>
          <a:ext cx="8207280" cy="4886280"/>
        </p:xfrm>
        <a:graphic>
          <a:graphicData uri="http://schemas.openxmlformats.org/drawingml/2006/table">
            <a:tbl>
              <a:tblPr/>
              <a:tblGrid>
                <a:gridCol w="1342800"/>
                <a:gridCol w="895680"/>
                <a:gridCol w="895320"/>
                <a:gridCol w="895320"/>
                <a:gridCol w="895320"/>
                <a:gridCol w="895320"/>
                <a:gridCol w="820800"/>
                <a:gridCol w="820800"/>
                <a:gridCol w="7459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№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дава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дава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4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(П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4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(Б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дава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дава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дава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дава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дава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дава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дава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дава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дава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490160" cy="1008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своения образовательной программы среднего общего образования выпускниками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х классов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азрезе  общеобразовательных организаций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2133720"/>
          <a:ext cx="7490160" cy="3925800"/>
        </p:xfrm>
        <a:graphic>
          <a:graphicData uri="http://schemas.openxmlformats.org/drawingml/2006/table">
            <a:tbl>
              <a:tblPr/>
              <a:tblGrid>
                <a:gridCol w="2376720"/>
                <a:gridCol w="3744720"/>
                <a:gridCol w="1368720"/>
              </a:tblGrid>
              <a:tr h="100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образовательная орган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общеобразовательных предметов, по которым выпускники преодолели пороговый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успеваемость по результатам ГИ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«СОШ№ 1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ти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щеобразовательным предметам  из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5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 МО г. Нягань «СОШ№ 2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м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щеобразовательным предметам  из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ОСШ №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ти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щеобразовательным предметам    из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 МО г. Нягань «СОШ№ 4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ем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щеобразовательным предметам  из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  «СОШ№ 6», им. А. И. Гордиенко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т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щеобразовательным предметам   из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 МО г. Нягань  СОШ№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м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щеобразовательным предметам  из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 МО г. Нягань «Гимназия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т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щеобразовательным предметам из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272360" cy="936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выпускников, набравших от 70 до 100 баллов в разрезе общеобразовательных предметов (качественный показатель освоения образовательных программ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71640" y="1836720"/>
          <a:ext cx="7272360" cy="4200480"/>
        </p:xfrm>
        <a:graphic>
          <a:graphicData uri="http://schemas.openxmlformats.org/drawingml/2006/table">
            <a:tbl>
              <a:tblPr/>
              <a:tblGrid>
                <a:gridCol w="2423880"/>
                <a:gridCol w="2424240"/>
                <a:gridCol w="2424240"/>
              </a:tblGrid>
              <a:tr h="554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15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15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15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4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4000" y="27612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количество поданных и удовлетворенных апелляций о несогласии с выставленным  балл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844640"/>
          <a:ext cx="8229600" cy="3328920"/>
        </p:xfrm>
        <a:graphic>
          <a:graphicData uri="http://schemas.openxmlformats.org/drawingml/2006/table">
            <a:tbl>
              <a:tblPr/>
              <a:tblGrid>
                <a:gridCol w="658800"/>
                <a:gridCol w="2209680"/>
                <a:gridCol w="1040040"/>
                <a:gridCol w="1627200"/>
                <a:gridCol w="1627200"/>
                <a:gridCol w="1066680"/>
              </a:tblGrid>
              <a:tr h="447840">
                <a:tc rowSpan="3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апелля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К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вить без измен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орону увеличения количества балл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орону уменьшения количества балл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908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28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664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616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47480">
                <a:tc gridSpan="2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424720" cy="1008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педагогов муниципального образования город Нягань в работе региональных предметных комиссий при проведении ЕГЭ 201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268280"/>
          <a:ext cx="8424720" cy="4483080"/>
        </p:xfrm>
        <a:graphic>
          <a:graphicData uri="http://schemas.openxmlformats.org/drawingml/2006/table">
            <a:tbl>
              <a:tblPr/>
              <a:tblGrid>
                <a:gridCol w="2592360"/>
                <a:gridCol w="3095640"/>
                <a:gridCol w="273672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9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елове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4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елов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елов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елов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5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 (профильный уровен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(базовый уровен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4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елов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елов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 и И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елов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3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елов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елов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ц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елов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экспертов приняли участие в проверке работ участников ЕГ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экспертов приняли участие в проверке работ участников ЕГ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452520" y="1125360"/>
            <a:ext cx="842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Заголовок 4"/>
          <p:cNvGrpSpPr/>
          <p:nvPr/>
        </p:nvGrpSpPr>
        <p:grpSpPr>
          <a:xfrm>
            <a:off x="457200" y="401760"/>
            <a:ext cx="8229600" cy="866520"/>
            <a:chOff x="457200" y="401760"/>
            <a:chExt cx="8229600" cy="866520"/>
          </a:xfrm>
        </p:grpSpPr>
        <p:pic>
          <p:nvPicPr>
            <p:cNvPr id="55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457200" y="401760"/>
              <a:ext cx="822960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57200" y="404640"/>
              <a:ext cx="8229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прав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456840" y="1663560"/>
            <a:ext cx="8420040" cy="446256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щие сведения о проведении ЕГЭ в 201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щественное наблюдение в 201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рушение процедуры ЕГЭ в 201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щие сведения о результатах итогового сочи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щие сведения об участниках ЕГ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ыбор выпускниками текущего года экзаменов в форме ЕГ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езультаты участников ЕГЭ (выпускников текущего года) в разрезе общеобразовательных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щее количество поданных и удовлетворенных апелляций участниками ЕГ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разовательные  организации, продемонстрировавшие наиболее высокие и низкие результаты ЕГЭ по учебным предме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инамика участия экспертов за 2016, 2017 и 2018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ов, получивших документы государственного образца о среднем общем образов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Объект 3" descr=""/>
          <p:cNvPicPr/>
          <p:nvPr/>
        </p:nvPicPr>
        <p:blipFill>
          <a:blip r:embed="rId1"/>
          <a:stretch/>
        </p:blipFill>
        <p:spPr>
          <a:xfrm>
            <a:off x="1496880" y="2082960"/>
            <a:ext cx="6297840" cy="370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902880"/>
            <a:ext cx="7490160" cy="5102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Содержимое 2"/>
          <p:cNvGrpSpPr/>
          <p:nvPr/>
        </p:nvGrpSpPr>
        <p:grpSpPr>
          <a:xfrm>
            <a:off x="963720" y="1908000"/>
            <a:ext cx="7216560" cy="3402360"/>
            <a:chOff x="963720" y="1908000"/>
            <a:chExt cx="7216560" cy="3402360"/>
          </a:xfrm>
        </p:grpSpPr>
        <p:pic>
          <p:nvPicPr>
            <p:cNvPr id="10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963720" y="1908000"/>
              <a:ext cx="7216560" cy="340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71640" y="1916280"/>
              <a:ext cx="7200720" cy="33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ВОД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итогам государственной итоговой аттестации 2018 года 99,5% выпускников одиннадцатых классов получили аттестаты о среднем общем образовании и 0,5 % - справк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902880"/>
            <a:ext cx="7490160" cy="5102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Содержимое 2"/>
          <p:cNvGrpSpPr/>
          <p:nvPr/>
        </p:nvGrpSpPr>
        <p:grpSpPr>
          <a:xfrm>
            <a:off x="317520" y="255600"/>
            <a:ext cx="8582040" cy="5846760"/>
            <a:chOff x="317520" y="255600"/>
            <a:chExt cx="8582040" cy="5846760"/>
          </a:xfrm>
        </p:grpSpPr>
        <p:pic>
          <p:nvPicPr>
            <p:cNvPr id="10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17520" y="255600"/>
              <a:ext cx="8582040" cy="58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24000" y="260280"/>
              <a:ext cx="8569080" cy="58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ЛОЖЕНИЯ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8" name=""/>
          <p:cNvGraphicFramePr/>
          <p:nvPr/>
        </p:nvGraphicFramePr>
        <p:xfrm>
          <a:off x="324000" y="1197000"/>
          <a:ext cx="8496000" cy="495936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4959360">
                <a:tc>
                  <a:txBody>
                    <a:bodyPr lIns="56520" rIns="5652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404040"/>
                        </a:buClr>
                        <a:buFont typeface="Arial"/>
                        <a:buAutoNum type="arabicPeriod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404040"/>
                        </a:buClr>
                        <a:buFont typeface="Times New Roman"/>
                        <a:buAutoNum type="arabicPeriod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Всем общеобразовательным организациям в рамках подготовки к государственной итоговой аттестации по образовательным программам  среднего общего образования в 2018-2019 учебном году продолжить работу направленную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404040"/>
                        </a:buClr>
                        <a:buFont typeface="Times New Roman"/>
                        <a:buChar char="-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на повышение качества подготовки выпускников к ГИА» через построение индивидуальной образовательной траектории обучения на каждого выпускника (на 10-11 класс), привлечение ресурсов Интернет для подготовки к ЕГЭ, ведение элективных курсов, расширяющих и углубляющих программу базового обучения, проведение пробных экзаменов;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404040"/>
                        </a:buClr>
                        <a:buFont typeface="Times New Roman"/>
                        <a:buChar char="-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на недопущение нарушений Порядка проведения ГИА выпускниками  11-х классов и педагогами общеобразовательных организаций» через организацию практических занятий, трансляции видеороликов, встречи одиннадцатиклассников с  выпускниками прошлых лет, родительские собрания, классные часы, совещания различного уровня, распространение буклетов с информацией ГИА, размещение информации на сайтах и стендах О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404040"/>
                        </a:buClr>
                        <a:buFont typeface="Times New Roman"/>
                        <a:buAutoNum type="arabicPeriod" startAt="2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Центру инновационного развития муниципального образования город Нягань «Гимназия» оказать содействие педагогам, испытывающим трудности в подготовке выпускников к государственной итоговой аттес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 u="sng">
                          <a:solidFill>
                            <a:srgbClr val="404040"/>
                          </a:solidFill>
                          <a:uFillTx/>
                          <a:latin typeface="Times New Roman"/>
                          <a:ea typeface="Times New Roman"/>
                        </a:rPr>
                        <a:t>через организацию</a:t>
                      </a:r>
                      <a:r>
                        <a:rPr b="1" lang="ru-RU" sz="12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    работы городских методических объединений учителей предметник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404040"/>
                        </a:buClr>
                        <a:buFont typeface="Times New Roman"/>
                        <a:buChar char="-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круглых  столов по обмену опыт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404040"/>
                        </a:buClr>
                        <a:buFont typeface="Times New Roman"/>
                        <a:buChar char="-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курсов повышения квалификации педагогов город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404040"/>
                        </a:buClr>
                        <a:buFont typeface="Times New Roman"/>
                        <a:buChar char="-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городских  семинаров  и других форм работ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404040"/>
                          </a:solidFill>
                          <a:uFillTx/>
                          <a:latin typeface="Times New Roman"/>
                          <a:ea typeface="Times New Roman"/>
                        </a:rPr>
                        <a:t>через обеспечение в участи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 педагогов в обучающих мероприятиях при АУ ДПО «Института развития» ХМАО-Югры и ФГБНУ «ФИП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7926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556000" y="6394320"/>
            <a:ext cx="64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Bookman Old Style"/>
              </a:rPr>
              <a:t>г. Нягань, 28 сентября 201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50920" y="27612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СВЕДЕНИЯ О ПРОВЕДЕНИИ ЕГ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8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1341360"/>
            <a:ext cx="85690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целью повышения качества проведения государственной итоговой аттестации по программам среднего общего образ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были созданы условия для проведения обучающих мероприятий для лиц, привлекаемых к организации ЕГЭ в ППЭ на платформе ФЦТ, при АУ ДПО Ханты-Мансийского автономного округа-Югры «Институт развития», на муниципальном уровне и на уровне общеобразовательных организаций (157 педагогов , 10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подготовлено компьютерное оборудование, видеооборудование и    канцтова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отработано межведомственное взаимодействие с представителями ЕДДС, Городской детской поликлиникой, средствами массовой информации, ПАО «Ростелеком» и АО ЮРЭСК, ОМВД по городу Нягани и с ЧО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организована работа телефонов «горячая линия» по вопросам ЕГЭ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 проведены инструктажи и практические занятия с участниками государственной итоговой аттест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. своевременно размещены на сайтах  КОиН и ОО нормативно-правовые документы, регламентирующие проведение ГИА в 2018 год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.обеспечены встречи родительской общественности города Нягани с представителями ДОиМП ХМАО-Югры и КО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. подготовлено три пункта проведения экзаменов: на базе МБОУ ОСШ № 3, на базе МБОУ МО г. Нягань «Гимназия» и на дому – все ППЭ  обеспечены системами видеонаблюдения, системами подавления сигналов подвижной связи, техническим оборудованием для распечатки экзаменационных материалов в аудиториях и штабе, ручными и стационарными металлоискателями и защищенными каналами связ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406440" y="155736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971640" y="333360"/>
            <a:ext cx="756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сведения о проведении ЕГЭ в 2018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24000" y="27612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сведения о проведении ЕГЭ в 2018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79280" y="981000"/>
            <a:ext cx="8569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Количество участников в 2017-2018 учебном году увеличилось (2017 г. -314 чел, 2018 – 381 чел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Количество участников, не прошедших ГИА по сравнению с прошлым учебным годом – увеличилось ( 2017 г. – 0 чел., 2018-2 чел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Количество удаленных с экзаменов участников ЕГЭ по сравнению с прошлым учебным годом – сократилось (2017г. – 2 чел., 2018 – 0 чел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аннулированных работ участников ЕГЭ по сравнению с прошлым учебным годом –сократилось  (2017 г. – 1 работа по обществознанию, 2018 -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27612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е наблюдение на ЕГЭ в 2018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79280" y="981000"/>
            <a:ext cx="8569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личество аккредитованных общественных наблюдателей – 24 человека (все представители школьных родительских комитет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личество общественных наблюдателей, посетивших пункты проведения ЕГЭ, 24 человека (10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личество выявленных нарушений общественными наблюдател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сутствовавших в ППЭ - 0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ходе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line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блюдения -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4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 Все общественные наблюдатели 2018 года отмечены благодарственными письмами: 2 чел. (ДОиМП ХМАО-Югры), 6 чел (Администрации города), 16 человек (КО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25440" y="27612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процедуры ЕГЭ в 2018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79280" y="981000"/>
            <a:ext cx="856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 Нарушение пунктов 43,44 Порядка проведения государственной итоговой аттестации по образовательным программам среднего общего образования со стороны организаторов аудитории – 01.06.2018 на экзамене по математике профильного уровня (ППЭ-127, аудитория 011,  педагогами из ОСШ № 3 и СОШ №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Итог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возбуждено дело об административном правонарушении по части 4 статьи 19.30 КоАП РФ, штраф – от 20 до 30 тысяч рублей, применены меры дисциплинарного взыскания (вынесено замеча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276120"/>
            <a:ext cx="8642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сведения о результатах итогового сочин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а допуска к ГИ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79280" y="1413000"/>
            <a:ext cx="8425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 Количество участников итогового сочинения – 384 чел. (383 чел.- ВТГ, 1чел – обучающийся СП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Доля  участников итогового сочинения из числа ВТГ, получивших «зачет» (допуск к ГИА) – 1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Доля участников итогового сочинения из числа ВТГ , сдавших с 1 раза – 1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Количество участников итогового сочинения, получивших по всем пяти критериям «зачет»- 80 чел. (20,9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24000" y="27612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  учащимися предметов в форме ЕГ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1280" y="1413000"/>
          <a:ext cx="7848360" cy="4593960"/>
        </p:xfrm>
        <a:graphic>
          <a:graphicData uri="http://schemas.openxmlformats.org/drawingml/2006/table">
            <a:tbl>
              <a:tblPr/>
              <a:tblGrid>
                <a:gridCol w="298440"/>
                <a:gridCol w="1430280"/>
                <a:gridCol w="2087640"/>
                <a:gridCol w="2303280"/>
                <a:gridCol w="1728720"/>
              </a:tblGrid>
              <a:tr h="39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7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Ист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2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4,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Географ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3,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,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7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Би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6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1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2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7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8,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1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Хим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2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7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7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Литера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Обществозн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0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6,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4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7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7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7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Немец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0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Инфор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5,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5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4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Математика (базовая/профильна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90,83(б)/56,39 (п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94,59 (б)/47,13 (п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r>
                        <a:rPr b="1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/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0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1"/>
          <p:cNvSpPr/>
          <p:nvPr/>
        </p:nvSpPr>
        <p:spPr>
          <a:xfrm>
            <a:off x="6803280" y="25322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5:49:56Z</dcterms:created>
  <dc:creator>Королева</dc:creator>
  <dc:description/>
  <dc:language>en-US</dc:language>
  <cp:lastModifiedBy>Шестакова</cp:lastModifiedBy>
  <cp:lastPrinted>2019-01-16T10:03:13Z</cp:lastPrinted>
  <dcterms:modified xsi:type="dcterms:W3CDTF">2019-01-16T10:03:21Z</dcterms:modified>
  <cp:revision>451</cp:revision>
  <dc:subject/>
  <dc:title>Слайд 1</dc:title>
</cp:coreProperties>
</file>